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5FC-B37D-47E0-B92E-BC47341A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DAE-E4F0-4A32-BC89-387C787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668-E4B8-406E-B6D0-80197F5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D56-F616-4F34-BD67-3C875D28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4E8-07D4-43C6-AA6C-D623E1C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948-CA82-45ED-9B76-62AD703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F20-1055-4D4D-89A9-E042F2F4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C55-9223-4C03-8253-336F3141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E05-F983-47D7-BB6B-B48BC9D5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3AC-C78C-485E-9529-08D3599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C91-246F-493E-8E91-2C5465C7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369-9C37-461F-BE0C-C7689AF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3D6-23BA-4460-8377-91471CC40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as.am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vantamento de Informações e Subsídios para a Elaboração de um Programa Nacional de Desenvolvimento e Capacitação de Recursos Humanos em Saneamento Ambienta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CELO DE PAULA NEVES LEL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CIDADES/PMSS</a:t>
            </a:r>
            <a:br>
              <a:rPr sz="2000"/>
            </a:br>
            <a:br>
              <a:rPr sz="1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571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sília / DF, 17 de agosto d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270920" y="1600200"/>
          <a:ext cx="187308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0920" y="1600200"/>
                    <a:ext cx="187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22720" y="0"/>
            <a:ext cx="68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ério das Cida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 Nacional de Sane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 de Modernização do Setor Saneamento - PM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-pmss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1228680" cy="55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05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 GE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r informações sobre o perfil da demanda e oferta existente no setor de saneamento ambiental quanto às necessidades de formação profissional e capacitação, qualificando os seguinte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 Pedag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financi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necer subsídios ao Grupo de Trabalho – GT, criado para desenvolver uma proposta de política de capacitação para o setor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undamentar os termos dos Acordos de Cooperação Técnica Internacion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Verificar a hipótese trabalhada no Estudo de Viabilidade que aborda a necessidade de se criar no Brasil um Centro de Formação Profissional em Águas, tendo como referência o Centro de Capacitação em Limoges, na França,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nalisar a convergência ou não entre a infra-estrutura e capacidades pedagógicas instaladas no país e a demanda por formação profissional e capacitação identificada no estudo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CEPÇÃO DO ESTU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studo fundamenta-se nas seguintes diretriz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brangência te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Ênfase de abord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mentos norte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o condutor analít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) identificar a demanda existente po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primoramento profission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por criaçã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ovas competênci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para cada uma das modalidades do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b) analisar a convergência (ou não) entr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manda e ofer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disponível de estruturas de ensino no paí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) indicar as possibilidades de parceria para se formar um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de de capacit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) utilizar as informações obtidas para identificar as disponibilidades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traparti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is e institucionais capazes de viabilizar centros de formação e capacitação n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dados e informações sobre público-alvo, demandas temáticas e estrutura pedagógica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consulta e pesquis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Entidades do setor que trabalham com programas de capacit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Rede de ensino formal na área de saneamento ambien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os de pesquisa que oferecem programas de capacitação e de reciclagem profissional na área de saneamento ambiental e de recursos hídricos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rgãos do governo federal que desenvolvem projetos, estudos e ações relacionados com o assunto objeto do Estudo e correl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Instrumentos de pesquis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ár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ntrevista presencial (*)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sultas diversas 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, documentos, biblioteca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tas programa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entrevista presenci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rasília–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MCIDADES (PNCC, SNSA, PNCDA, PROCEL, PMSS); MMA; ANA/MMA; MIN; FUNASA; MCT, ASSEMAE*; AESBE; CAESB; UnB; SISTEMA “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SABESP; CETESB; USP/Faculdade de Saúde Pública; São Carlos; Franca; SANASA/Campinas; IPT; CEFET; ETESP; Fórum Nacional Lixo e Cidadania/Água 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ABES; IBAM; PROSAB/FINEP; UFRJ/COPPE; CED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Campina Grande/UF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AGECE - Fortale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EMBASA - Salv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DESA/UFMG; CETEC; COPASA; PBH; ASM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UFRGS/IP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OMPANHAMENTO E SUPERVISÃO DOS TRABALH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acompanhamento e a supervisão do desenvolvimento do Estudo será feito pelo Grupo de Trabalho – GT, de composição interministerial, criado para propor uma política nacional de desenvolvimento e capacitação de recursos humanos em saneamento ambiental. Etapas a serem cumpri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º) Aprovação do Plano de Trabalho: 11/0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º) Apresentação dos resultados do levantamento de campo com os dados e informações sobre Público-Alvo, Demandas Temáticas e Estrutura Pedagógica: 05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º) Apresentação do Estudo em sua versão preliminar: 23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º) Apresentação e Entrega do Estu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upo ampliado):período ent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6 e 10/12/20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3:33:03Z</dcterms:created>
  <dc:creator>.</dc:creator>
  <dc:description/>
  <dc:language>en-US</dc:language>
  <cp:lastModifiedBy>IPEA</cp:lastModifiedBy>
  <dcterms:modified xsi:type="dcterms:W3CDTF">2004-09-16T21:32:45Z</dcterms:modified>
  <cp:revision>700</cp:revision>
  <dc:subject/>
  <dc:title>AVALIAÇÃO DE PERDAS EM SISTEMAS DE ABASTECIMENTO DE ÁGUA – INDICADORES DE PERDAS E METODOLOGIAS PARA ANÁLISE DE CONFIABILIDADE </dc:title>
</cp:coreProperties>
</file>